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B906F-8280-42C3-9EF1-1C7E2AFEA6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E5E67-D35E-4CBC-9CA2-DE81C248AD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5C34A-D408-40B0-98B3-F6C554F2E7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AD9F4-4932-4B50-AA0D-99563E8339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B452A-A163-4D4E-A5B6-4DC93BAB25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562DD-05CB-47A8-B044-98DD3407C3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8F5E3-7209-49F2-B2EE-3CEDD74FEC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1A906-7613-4BD4-9D5B-E7D8C071DA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2D694-64F9-415A-8F56-7DB438AFFE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7FBF3-5238-4594-8F30-E388506E10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CAFE6-FD1F-4D86-940F-41DAD1316D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A04C5-76E7-46CF-BF36-6F64586018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91CBB-C945-409D-A3C9-F65E4962E3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895A1-3690-40D7-B53D-D1A5DA7C57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4B1F-2E2D-44EF-80BA-C0E2D8A68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B58D-270C-4D40-BC3C-AE4D85A9D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34C680-56E8-4496-89B1-65273C761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462E66-2690-437F-B03B-421EE73D1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1122D1-5201-403A-BE56-26E974535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1709EF-6FC4-4600-9BFD-A7217F382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651B20-80E7-4616-8051-D5C82CC6B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7AEC97-93CF-4E78-A2DB-9831B2E7C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2C2FB3-73E0-4586-BC31-0C524D458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4EFEFC-2CDF-428B-A90E-37FE20164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3B88FC-C2AE-4E03-9633-AE71D003D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88E7-9C20-4EAA-BD80-AC6914E37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E61E-EAB8-4544-8E55-1C350A760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F0DAE-AEF1-4542-A402-C8A083979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40B07-754B-4CFC-A012-132FFB34F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E5559-6D35-4ACD-B530-088E6883C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1D2CF-192F-4114-9068-B2BEB98A6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457ED-56EC-4FB0-BE6D-35466331A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1EA28-E556-4325-B509-CADFB7F47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88F39-E08A-4360-85CA-65F21E7D1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A4A8-3704-43B8-8049-EFFB640BB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062AC-DE60-4960-8663-6D463ABF3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485A2-001D-47A4-9E08-5F5825A5A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62FE1-9ACA-4986-8695-C587232F9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9D2FA-BE2C-4BEC-A5B7-30D94AF95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52042-42E8-4054-8498-DC08ED0BC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F127C0-3D8C-4081-8FCB-78BC87888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5B5508-F95C-4A58-8376-7AB078855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2D0878-7BB6-4118-8F28-89B255534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71F63A-BD0E-4687-A3B7-D8ECAAC7E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B29FEF-D115-42CC-A1AA-9296566A5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5E4E-3F77-437E-BEAA-3AF159A8F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8F6CBF-E9DD-48DA-97FF-C5621FE6D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3F4604-4BEF-49DA-90EE-D92EEEB40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50D3DB-16EB-4E26-9956-8C4182A24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49E2EF-5AF3-43E0-97B0-6F56E18F2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D9A8D0-D3F3-49CE-91D7-A420DCF01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BFEBEB-EED4-4D16-9642-EF649DAD6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5729E3-3F07-44C8-B8A4-4861B1231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829114-BFEE-496A-8BB2-3C4DFB384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26F713-91F6-4CF1-81C2-A4F30B30C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1C4175-073F-49AE-B155-5FEBE6A83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2A83-722B-48A4-BB85-972D4F30E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7119C2-5CF1-467A-9206-8C2F356F7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22CE8A-A145-40A9-8986-3154893C8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6A70B6-D84D-4860-BD13-DFC577597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2C359C-71D3-4316-8852-A6A699BAA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4D35C5-3AD4-4FF1-BD65-CE482958A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F42522-67B7-4517-9FE6-49ABFAE87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BF7F14-FE88-438A-B9A7-7E6804A45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77EE3B-2CCE-42C5-8225-37BA2C50F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C3E6B5-58A2-4256-A414-5A666D74F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4D4C90-E315-4877-812C-DF246A438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3512-8EC7-4BAE-8964-1C4C94EF5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DE0BD1-0E20-46B7-8128-526DCC3FB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7102D1-D4A1-4DB9-8330-863ABDC66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79683C-3C41-4C7A-9FF2-DBBBBFDF1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AC63F7-046E-43AB-A918-9688F015B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232AC8-EB19-4151-A67D-C83F01974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3F3BF8-5E87-4355-BC47-4E5879610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302F53-0F69-4834-9656-4CAB34EE8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9EAA5D-15FC-4940-83AB-D2B92ACE1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B1A288-CC97-485A-AF58-E33DC03CD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850DED-7AA0-44B6-B078-F1D06E67D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3ECF-6198-44E9-8383-986D15DB6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157FD5-D9E8-4A38-B760-0D594D9D4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B6FEE1-CCDE-4EB6-A188-5B26E2FEB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2786AE-11E5-4AFF-A67D-DFDDED9EB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A7F090-AE83-4714-8E42-0D89551C5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4D79AD-D915-46D7-A53D-6B87D58B9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7EE56C-1D06-4386-8115-153D09C02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E84673-B5FE-4AE3-B419-48C7A9A1F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FCC169-62CA-4B08-9AC3-7434A153D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968CB3-001A-4291-9129-D8D702FDF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DC3F6E-92A9-4479-B32E-06344C478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729E-E861-474A-A3C4-C97267828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17C706-5013-47BB-B87F-E3184CC0D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547A5B-AA21-41C5-ACC0-3B59EE984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210894-2069-4061-B603-9ED60642F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D59CF3-6AB9-4B8B-91D7-6BF0A14D4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B7FD06-A5C1-4A19-ABC7-A7BBCC3BA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86C374-766F-4B91-9488-945BD773A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2DCECA-D5C8-4078-A8A0-BF9D87ED2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81E555-0AE3-4E7E-BBD0-5532DFAC8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BE6D41-52EF-4627-B72A-AB4957347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DCFB11-C750-4F07-AB61-DA6D0DC9C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E2FB-5933-484F-91C3-1B5257FEF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E388AD-7293-42D0-B9B4-64E9B8E3B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B13C1A-537E-4B6E-B768-7249E46CF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1C827E-A07E-4D92-92D8-57665FE74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6C43D5-D0C1-4404-A18C-B2902D3D3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BF1928-BC76-4F9B-B376-7B7092A0B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596691-4236-40B8-A502-C8287F2D6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82E29A-4124-4A4D-8EFC-BB5DCBF60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35DCE6-C4A0-4565-A099-A98DA7A3A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8739BC-AC65-4147-B6F3-99F1448E4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FA7DC0-D217-4A91-BFFC-CF39958A6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F3FD-C438-4103-97A2-1485F9E77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0E6F27-F0B5-4F34-9FAE-6853E642D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FA2CE7-730A-483B-8F90-F1844BE44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7D994A-EC78-4126-AC48-E27B7A494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E0B097-6320-4B40-BA27-A94544247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7B1727-F8A2-434B-B417-2F90C9E09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6B8191-DDDE-4D1A-895E-46056CF69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4B1661-6F9A-49CA-81F4-AD0A016DA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985176-C23E-4108-9579-C79F9E952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983971-0A0F-46F7-B91E-DE6DFA866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18FF7E-9DE9-4C96-8CDB-AF147D8E0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085FD-FA4C-40A1-A0A9-1B666EDAA2E4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Straight Connector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94F70-2EDA-4574-A628-59628AA1905C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8445F-1D53-4863-81BE-AC0DFBCB2EDF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Straight Connector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1573D-A224-49D0-91A8-438E2DBA1292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Straight Connector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32944-35D4-4576-B726-2BA660414E0A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97366-5BBB-4D9C-8E27-0FFBCD2D9800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Straight Connector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8ACE1-E038-4A54-96BE-76D9A5F58A58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D7190-2979-4909-AD37-464EF61DC1E0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EA7DD-8667-44A7-9BA9-4C06B3BF3582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Title 1" descr=""/>
          <p:cNvPicPr/>
          <p:nvPr/>
        </p:nvPicPr>
        <p:blipFill>
          <a:blip r:embed="rId1"/>
          <a:stretch/>
        </p:blipFill>
        <p:spPr>
          <a:xfrm>
            <a:off x="182520" y="4761000"/>
            <a:ext cx="8663040" cy="1322280"/>
          </a:xfrm>
          <a:prstGeom prst="rect">
            <a:avLst/>
          </a:prstGeom>
          <a:ln w="0">
            <a:noFill/>
          </a:ln>
        </p:spPr>
      </p:pic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380520" y="38862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Franklin Gothic Book"/>
              </a:rPr>
              <a:t>Materi 7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Franklin Gothic Book"/>
              </a:rPr>
              <a:t>Religi (lanjutan)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4e3b30"/>
                </a:solidFill>
                <a:latin typeface="Franklin Gothic Book"/>
              </a:rPr>
              <a:t>PRA-ANIMISME ATAU ANIMATISME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4e3b30"/>
                </a:solidFill>
                <a:latin typeface="Franklin Gothic Book"/>
              </a:rPr>
              <a:t>Kepercayaan terhadap kekuatan gaib.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700" spc="-1" strike="noStrike">
                <a:solidFill>
                  <a:srgbClr val="4e3b30"/>
                </a:solidFill>
                <a:latin typeface="Franklin Gothic Book"/>
              </a:rPr>
              <a:t>Animatisme  menurut R.R. Marret mempunyai bentuk yang lebih sederhana dibanding animisme. Konsep ini diambil dari gagasan tentang </a:t>
            </a:r>
            <a:r>
              <a:rPr b="0" i="1" lang="en-US" sz="2700" spc="-1" strike="noStrike">
                <a:solidFill>
                  <a:srgbClr val="4e3b30"/>
                </a:solidFill>
                <a:latin typeface="Franklin Gothic Book"/>
              </a:rPr>
              <a:t>mana </a:t>
            </a:r>
            <a:r>
              <a:rPr b="0" lang="en-US" sz="2700" spc="-1" strike="noStrike">
                <a:solidFill>
                  <a:srgbClr val="4e3b30"/>
                </a:solidFill>
                <a:latin typeface="Franklin Gothic Book"/>
              </a:rPr>
              <a:t>(daya magis). 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4e3b30"/>
                </a:solidFill>
                <a:latin typeface="Franklin Gothic Book"/>
              </a:rPr>
              <a:t>ANIMISME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1" lang="en-US" sz="2700" spc="-1" strike="noStrike">
                <a:solidFill>
                  <a:srgbClr val="4e3b30"/>
                </a:solidFill>
                <a:latin typeface="Franklin Gothic Book"/>
              </a:rPr>
              <a:t>Kepercayaan terhadap roh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e3b30"/>
                </a:solidFill>
                <a:latin typeface="Franklin Gothic Book"/>
              </a:rPr>
              <a:t>Teori Jiwa – Mimpi (E.B. Taylor)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e3b30"/>
                </a:solidFill>
                <a:latin typeface="Franklin Gothic Book"/>
              </a:rPr>
              <a:t>Dia menyebut animisme sebagai bentuk kepercayaan terhadap mahkluk-mahkluk berjiwa, meliputi dua bentuk: 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Jiwa yang bertahan sesudah kematian, menimbulkan kepercayaan terhadap roh (leluhur)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Jiwa dalam keadaan tidur (dijelaskan melalui mimpi), </a:t>
            </a:r>
            <a:r>
              <a:rPr b="0" i="1" lang="en-US" sz="3000" spc="-1" strike="noStrike">
                <a:solidFill>
                  <a:srgbClr val="4e3b30"/>
                </a:solidFill>
                <a:latin typeface="Franklin Gothic Book"/>
              </a:rPr>
              <a:t>trance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Dikenal adanya penghormatan terhadap jimat (</a:t>
            </a:r>
            <a:r>
              <a:rPr b="0" i="1" lang="en-US" sz="3000" spc="-1" strike="noStrike">
                <a:solidFill>
                  <a:srgbClr val="4e3b30"/>
                </a:solidFill>
                <a:latin typeface="Franklin Gothic Book"/>
              </a:rPr>
              <a:t>fetishes</a:t>
            </a: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)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Teori jiwa Gerak Alam (Muller)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Jiwa menggerakkan alam, misalnya angin, gempa bumi, dan sebagainya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TOTEMISME 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otenisme  merupakan fenomena yang menunjuk pada hubungan organisasional khusus antara suatu suku bangsa atau klan dan suatu spesies tertentu dalam wilayah binatang atau tumbuhan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URMONOTEISME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Pandangan yang bersifat evolutif mengenai sejarah agama dengan melihat agama berkembang dari bentuk-bentuk paling sederhana, seperti pra-animisme, animisme, totemisme, ke arah bentuk-bentuk yang lebih tinggi, seperti politeisme, dan akhirnya monoteisme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e3b30"/>
                </a:solidFill>
                <a:latin typeface="Franklin Gothic Book"/>
              </a:rPr>
              <a:t>Manusia beragama dapat dijelaskan dalam dua perspektif: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 algn="just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e3b30"/>
                </a:solidFill>
                <a:latin typeface="Franklin Gothic Book"/>
              </a:rPr>
              <a:t>1. Aktivitas Agama dijelaskan secara </a:t>
            </a:r>
            <a:r>
              <a:rPr b="1" lang="en-US" sz="2700" spc="-1" strike="noStrike">
                <a:solidFill>
                  <a:srgbClr val="4e3b30"/>
                </a:solidFill>
                <a:latin typeface="Franklin Gothic Book"/>
              </a:rPr>
              <a:t>genetik</a:t>
            </a:r>
            <a:r>
              <a:rPr b="0" lang="en-US" sz="2700" spc="-1" strike="noStrike">
                <a:solidFill>
                  <a:srgbClr val="4e3b30"/>
                </a:solidFill>
                <a:latin typeface="Franklin Gothic Book"/>
              </a:rPr>
              <a:t>,  meliputi (a) aktivitas agama atas dasar antroposentrik; dan aktivitas agama atas dasar theosentrik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e3b30"/>
                </a:solidFill>
                <a:latin typeface="Franklin Gothic Book"/>
              </a:rPr>
              <a:t>2. Aktivitas agama dijelaskan secara </a:t>
            </a:r>
            <a:r>
              <a:rPr b="1" lang="en-US" sz="2700" spc="-1" strike="noStrike">
                <a:solidFill>
                  <a:srgbClr val="4e3b30"/>
                </a:solidFill>
                <a:latin typeface="Franklin Gothic Book"/>
              </a:rPr>
              <a:t>fungsional</a:t>
            </a:r>
            <a:r>
              <a:rPr b="0" lang="en-US" sz="2700" spc="-1" strike="noStrike">
                <a:solidFill>
                  <a:srgbClr val="4e3b30"/>
                </a:solidFill>
                <a:latin typeface="Franklin Gothic Book"/>
              </a:rPr>
              <a:t>, meliputi (a) fungsi emosional melalui pengungkapan makna ungkapan ritus dan etika moral; dan (b) fungsi sentimental atau intelektual yang berupaya mengkaji peran agama bagi kehidupan bermasyarakat.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Magi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Menurut Frazer, magi adalah bentuk awal dari agama, walaupun bentuk magi dan agama berbeda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Magi adalah upacara dan rumusan verbal yang memproyeksikan hasrat manusia ke dunia luar atas dasar teori pengontrolan manusia untuk suatu tujuan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Magi tiruan didasari oleh prinsip kesamaan dalam bentuk atau dalam proses, misalnya jika seorang ahli magi menusukkan jarum pada suatu boneka, orang yang diserupakan dengan boneka itu akan terkena pengaruhnya. 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Magi sentuhan didasari oleh sentuhan atau kontak fisik. Misalnya sehelai rambut, sepotong kuku, secarik kain atau benda lainnya yang pernah bersentuhan dengan orang tersebut, bisa dijadikan bahan untuk mencelakakan orang. 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e3b30"/>
                </a:solidFill>
                <a:latin typeface="Franklin Gothic Book"/>
              </a:rPr>
              <a:t>Sejumlah pengarang membagi antara magi putih dan hitam tergantung dari tujuan magi.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e3b30"/>
                </a:solidFill>
                <a:latin typeface="Franklin Gothic Book"/>
              </a:rPr>
              <a:t>1. Magi produktif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500" spc="-1" strike="noStrike">
                <a:solidFill>
                  <a:srgbClr val="4e3b30"/>
                </a:solidFill>
                <a:latin typeface="Franklin Gothic Book"/>
              </a:rPr>
              <a:t>Misalnya Magi untuk berburu, menyuburkan tanah, menanam dan menuai panenan, pembuatan hujan, penangkapan ikan, pelayaran, perdagangan, dan percintaan. 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e3b30"/>
                </a:solidFill>
                <a:latin typeface="Franklin Gothic Book"/>
              </a:rPr>
              <a:t>2. Magi protektif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500" spc="-1" strike="noStrike">
                <a:solidFill>
                  <a:srgbClr val="4e3b30"/>
                </a:solidFill>
                <a:latin typeface="Franklin Gothic Book"/>
              </a:rPr>
              <a:t>Misalnya Tabu-tabu untuk menjaga milik, magi untuk membantu mengumpulkan hutang, magi untuk menanggulangi kemalangan, magi untuk pemeliharaan orang sakit, magi untuk keselamatan perjalanan, dan untuk dijadikan lawan tehadap magi destruktif.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3. Magi destruktif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Misalnya Magi untuk mendatangkan badai, merusak milik, mendatangkan penyakit, dan mendatangkan kematian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Dalam praktiknya, dibutuhkan tiga unsur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1. Bahan yang digunakan, berupa obat-obatan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2. Penggarapan, berupa upacara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3. Sesuatu yang diucapkan, berupa mantra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Title 1" descr=""/>
          <p:cNvPicPr/>
          <p:nvPr/>
        </p:nvPicPr>
        <p:blipFill>
          <a:blip r:embed="rId1"/>
          <a:stretch/>
        </p:blipFill>
        <p:spPr>
          <a:xfrm>
            <a:off x="133200" y="268200"/>
            <a:ext cx="8864640" cy="103680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e3b30"/>
                </a:solidFill>
                <a:latin typeface="Franklin Gothic Book"/>
              </a:rPr>
              <a:t>Ramalan adalah usaha untuk memperoleh informasi tentang hal-hal di masa datang atau hal-hal yang luput dari pengalaman biasa dengan meminta nasihat kepada informan yang bukan manusia. 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lnSpc>
                <a:spcPct val="9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e3b30"/>
                </a:solidFill>
                <a:latin typeface="Franklin Gothic Book"/>
              </a:rPr>
              <a:t>Teknik-teknik yang digunakan adalah: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e3b30"/>
                </a:solidFill>
                <a:latin typeface="Franklin Gothic Book"/>
              </a:rPr>
              <a:t>1. Ramalan mekanis dengan cara memanipulasi obyek-obyek material, dan operasinya disebut ”kebetulan”.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e3b30"/>
                </a:solidFill>
                <a:latin typeface="Franklin Gothic Book"/>
              </a:rPr>
              <a:t>2. Ramalan Ritual (melalui nujum)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e3b30"/>
                </a:solidFill>
                <a:latin typeface="Franklin Gothic Book"/>
              </a:rPr>
              <a:t>3. Ramalan emotif, yang menunjuk pada daya-daya spiritual, adakalanya lewat roh perantara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lnSpc>
                <a:spcPct val="9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Title 1" descr=""/>
          <p:cNvPicPr/>
          <p:nvPr/>
        </p:nvPicPr>
        <p:blipFill>
          <a:blip r:embed="rId1"/>
          <a:stretch/>
        </p:blipFill>
        <p:spPr>
          <a:xfrm>
            <a:off x="133200" y="268200"/>
            <a:ext cx="8864640" cy="103680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Sihir harus dipahami melalui kodrat dan kedudukannya dalam teori penyakit. 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Para penyihir mempunyai berbagai bentuk, sebagai manusia, binatang, dan bola api. 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Manusia dapat menjadi penyihir bila dilahirkan dengan dua hati: baik dan jahat. 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Untuk melawan kuasa jahat, manusia yang merasa tidak berdaya karena kurangnya pengetahuan akan upacara agama, mencari pertolongan melalui dukun yang dianggapnya mempunyai pengetahuan untuk melawan penyihir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Title 1" descr=""/>
          <p:cNvPicPr/>
          <p:nvPr/>
        </p:nvPicPr>
        <p:blipFill>
          <a:blip r:embed="rId1"/>
          <a:stretch/>
        </p:blipFill>
        <p:spPr>
          <a:xfrm>
            <a:off x="133200" y="268200"/>
            <a:ext cx="8864640" cy="1036800"/>
          </a:xfrm>
          <a:prstGeom prst="rect">
            <a:avLst/>
          </a:prstGeom>
          <a:ln w="0">
            <a:noFill/>
          </a:ln>
        </p:spPr>
      </p:pic>
      <p:sp>
        <p:nvSpPr>
          <p:cNvPr id="42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enung adalah praktik dari orang yang mencoba menyakiti orang lain lewat magi. Biasanya melalui penguburan boneka, penguburan kembali sisa-sisa tubuh manusia, penguburan obyek-obyek lain (foto, potongan kuku, rambut, sobekan pakaian), pengucapan doa dan mantra-mantra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Biasanya  tenung merangkum semua magi hitam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4T22:52:33Z</dcterms:created>
  <dc:creator>Valued Acer Customer</dc:creator>
  <dc:description/>
  <dc:language>en-US</dc:language>
  <cp:lastModifiedBy>Tanti Skober</cp:lastModifiedBy>
  <dcterms:modified xsi:type="dcterms:W3CDTF">2011-02-22T13:10:33Z</dcterms:modified>
  <cp:revision>11</cp:revision>
  <dc:subject/>
  <dc:title>Manusia dan Kebudayaan Indonesia</dc:title>
</cp:coreProperties>
</file>