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82A1-C70D-41D1-ADB5-D33A49737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34D8-62B6-42F5-9CF1-297E33BFC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A361-5BAC-4881-86AE-7678068F7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7CE5-639C-4141-B95B-AD3C62C50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8A6E-5F64-4060-8997-2132554E4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D04-5DAE-4FD1-8999-EACF07277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2D2D-AA99-44C7-BF73-1FAE0F16D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C888-7FC8-47F1-8144-E5E41AA39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0B45-B46C-453A-BA32-E7ED609B8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36A3-8B5F-4239-8E5E-FF416BCEA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9A10-785B-49E2-8FCA-12A03E99D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4EAF-2D8D-490A-968B-396C53BBD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EF3C-B9D8-42A3-914E-BF9EF9EF8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E17E-8E6A-4B37-80F9-6D652EB62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330-5707-49D5-B440-4092AD7C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6B2-1C77-44F4-BA31-4B85BB10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B9659-2885-4C84-85C1-19EA6BA7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DB115-F17F-4E06-9092-150038C3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864B2-5A33-4F09-A00A-CA8FA64C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5F199-4927-4CBA-8C62-89BDE279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DA32B-88EF-43C7-AB17-1027855B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95333-3197-4FF3-8773-F24F406C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0C281-8BA8-436E-B3CB-8706451E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F3F30-26A9-475F-A002-7D47498E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F8E3B-51A8-477E-9905-37440CCB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481-083C-44B1-A91A-11F80E6D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F93-9CD4-46CF-8370-27ACADD6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5220-5949-4172-9D8A-ED5B973C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D92B-5D34-470D-B540-CB2493C6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1385-2C20-48C1-8173-F3D9B029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46A6-ABBE-43E3-BEFC-62CFFD6F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C999-DFE6-4B35-A75F-B5984C83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67CA-2ADC-4564-8EB4-DC5A3047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7DCA-1038-4651-9580-5FDA390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AD1-FFD0-4604-A652-FBAD0B67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274F-8ADC-400A-AF57-160E98EA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FF27-99CD-49F1-B87D-CDBF237B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F1E4-9168-4FC4-8129-630738A4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E068-F80E-475A-AB82-07578789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628E-81CC-473F-B80A-DEAE3ECE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235AF-5183-4B72-BDF1-8D9EA9B5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D9D2-1704-49D8-AD4F-F3143790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1EEA6-1D96-48F6-AB60-78D2D5BD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6418-D327-4C7B-BB57-51090281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B9B8-C472-4089-B111-C4289B25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008-9C44-4511-B49D-7EC423C0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4C74A-28E6-4132-A07C-9761C15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E2D7-7C7C-4F1B-A202-7EE7F28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80BA-094B-4416-BF19-B6918B6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8A1C-70CA-45B7-85B3-39B9EC78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DF592-E3DC-488F-9993-901B4F13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885A-FB41-428F-9AF7-6D892B0A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1A36-8C7A-43AA-8BD5-EEC430CF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D09F-22D7-4A14-BA41-44B29CD8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3BA5-8788-4265-A8DB-4DAD9B97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19C0-81BB-44DF-8F34-856F1C77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E05-0923-46F9-8CAE-96647E16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77BF-55CE-4025-8C79-DBF68D51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E6FC-E372-4274-9754-552BB460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A2B4B-1147-4D32-94F7-9013EB03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D69B-DD7D-497F-AA8E-9F24F96D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CCC8-23D2-4BA9-A3A5-0D25A5B5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67CE-5FE3-4A4A-83CB-F64F0F99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B628-0BE6-499D-A54E-32F5692D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E3735-DD0E-4D43-8B3B-3D77CB20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C1072-0E9E-440F-8BA1-36032D24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813DA-692B-43E5-A12F-690A04F6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A33-6FF3-42B6-A585-761425B2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815E-91C8-4A11-B811-D7ABDFC3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27E74-6C88-4E8F-A5CD-3866302D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CCB2B-2A92-4F68-B1D7-3810DFFC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2164B-13CA-4A6F-A14B-F90D0E24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14350-3131-447D-A98C-4EE4B280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62B67-9D1C-45D6-81B2-CF2A6EF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6B552-FFEB-4612-AB27-5A38718A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398D-1305-462F-BF1E-6D9EA1B4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088C-C01E-4A84-818E-2D608CE0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5477-C73A-42C2-A7C5-B4917DE8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FAE-43B7-4F08-A12B-785CE0BD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74A64-F62C-447F-8FA7-5CE5EA24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AC3EA-0CEF-43B8-9457-6D293876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A892D-31E2-43C8-A88E-F10C4DCD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793A9-7ECF-4EA9-A2B9-FFD63D6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52D8E-BA78-4E87-987A-A2751B66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39B97-282C-4E12-970B-116C4DBD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D788-1CA5-4E40-B7DC-CC18D6E9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4958F-1FF0-463E-B86A-261D722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F5373-C89C-477B-8ABA-9AFB74F5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AE3CA-63E9-4108-B7F0-DA2E67E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B6E-2F27-4BD4-B182-9948AD05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33735-712D-43CD-B88D-1D18B5B2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23235-637D-450A-A00D-5B4BD702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4C883-0236-43D3-9536-1DD4DA2E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BFAC1-BE02-4649-A290-E2DCBC47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7FA9B-8463-4C15-B487-1E7B16F7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4BD95-9734-4A56-97D1-D6E7D68E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36CFE-6710-4BAE-8CC7-AADF0C0C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147D2-D103-457C-A031-63F2495A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56CE-89C6-4811-8378-02EECB5E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8DB6A-4E12-4DFE-8F87-B7CC96EC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32C-26EE-47D8-B691-6C38081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33ECB-3BD9-43D0-BDCB-51D9BFCB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7900E-88EC-4FBC-8CAA-C3D1268E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FE58B-6EBE-4A58-9B70-4F202735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9301F-4542-4447-A580-BA31A1C3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61A4-268F-4C26-B8DE-649F0DA6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A8B9E-9C4D-489E-A175-1B06FA93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B4FE2-8633-4EC7-B39F-E4F40F72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B38D-D9CC-472D-A67D-E66830D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EB53B-E20F-4EA0-B706-A5C8E76A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CEA69-CFD5-40E2-87CC-402CAFC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F16-C97F-4745-8684-F43F7A1E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B433C-56E0-4278-ACB4-3BD3AC84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68E4B-0F4B-444A-8286-90FED769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B266D-CCFB-40D3-B76D-B9C94A2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61EBD-78E1-47DD-8449-A247004B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7E6B5-9153-4EC7-974F-3CBE0FE4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001FD-EBBA-454C-90F4-918C0D59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60554-435D-4E93-9D15-C1B0DA09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A5865-44B9-4551-BB53-B80FBC86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181DA-6896-4CF7-86E1-A3206E50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163AD-001C-4534-9D83-5FA4157A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FFF4-9E96-49D8-A419-EFD57A074A6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99A8-1945-410A-8A88-97DD97C34F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A9E0-BCBB-4AFB-AB4C-DBC321B2FA5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BCF3-AF76-409B-BB00-ABF81750E39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9769-BC4E-4D9B-AE28-B04D1037A3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6D64-61BA-4C40-8DC1-E782F9A0192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4FBC-A7AD-4D08-8E4E-B2FC4EADEA2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6DEF-F092-4ADD-8AC5-AB23D9F2051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FF1D-ECF4-45C9-8044-AFA9DB0962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Materi 7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Religi (lanjutan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PRA-ANIMISME ATAU ANIMATISM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Kepercayaan terhadap kekuatan gaib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Animatisme  menurut R.R. Marret mempunyai bentuk yang lebih sederhana dibanding animisme. Konsep ini diambil dari gagasan tentang </a:t>
            </a:r>
            <a:r>
              <a:rPr b="0" i="1" lang="en-US" sz="2700" spc="-1" strike="noStrike">
                <a:solidFill>
                  <a:srgbClr val="4e3b30"/>
                </a:solidFill>
                <a:latin typeface="Franklin Gothic Book"/>
              </a:rPr>
              <a:t>mana </a:t>
            </a: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(daya magis)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ANIMISM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Kepercayaan terhadap roh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Teori Jiwa – Mimpi (E.B. Taylor)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Dia menyebut animisme sebagai bentuk kepercayaan terhadap mahkluk-mahkluk berjiwa, meliputi dua bentuk: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Jiwa yang bertahan sesudah kematian, menimbulkan kepercayaan terhadap roh (leluhur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Jiwa dalam keadaan tidur (dijelaskan melalui mimpi), 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tranc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ikenal adanya penghormatan terhadap jimat (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fetishes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eori jiwa Gerak Alam (Muller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Jiwa menggerakkan alam, misalnya angin, gempa bumi, dan sebagainya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TOTEMISME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tenisme  merupakan fenomena yang menunjuk pada hubungan organisasional khusus antara suatu suku bangsa atau klan dan suatu spesies tertentu dalam wilayah binatang atau tumbuh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URMONOTEISM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andangan yang bersifat evolutif mengenai sejarah agama dengan melihat agama berkembang dari bentuk-bentuk paling sederhana, seperti pra-animisme, animisme, totemisme, ke arah bentuk-bentuk yang lebih tinggi, seperti politeisme, dan akhirnya monoteism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Manusia beragama dapat dijelaskan dalam dua perspektif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1. Aktivitas Agama dijelaskan secara </a:t>
            </a: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genetik</a:t>
            </a: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,  meliputi (a) aktivitas agama atas dasar antroposentrik; dan aktivitas agama atas dasar theosentrik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2. Aktivitas agama dijelaskan secara </a:t>
            </a:r>
            <a:r>
              <a:rPr b="1" lang="en-US" sz="2700" spc="-1" strike="noStrike">
                <a:solidFill>
                  <a:srgbClr val="4e3b30"/>
                </a:solidFill>
                <a:latin typeface="Franklin Gothic Book"/>
              </a:rPr>
              <a:t>fungsional</a:t>
            </a: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, meliputi (a) fungsi emosional melalui pengungkapan makna ungkapan ritus dan etika moral; dan (b) fungsi sentimental atau intelektual yang berupaya mengkaji peran agama bagi kehidupan bermasyarakat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Mag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urut Frazer, magi adalah bentuk awal dari agama, walaupun bentuk magi dan agama berbed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gi adalah upacara dan rumusan verbal yang memproyeksikan hasrat manusia ke dunia luar atas dasar teori pengontrolan manusia untuk suatu tuju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agi tiruan didasari oleh prinsip kesamaan dalam bentuk atau dalam proses, misalnya jika seorang ahli magi menusukkan jarum pada suatu boneka, orang yang diserupakan dengan boneka itu akan terkena pengaruhnya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agi sentuhan didasari oleh sentuhan atau kontak fisik. Misalnya sehelai rambut, sepotong kuku, secarik kain atau benda lainnya yang pernah bersentuhan dengan orang tersebut, bisa dijadikan bahan untuk mencelakakan orang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Sejumlah pengarang membagi antara magi putih dan hitam tergantung dari tujuan magi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1. Magi produktif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Misalnya Magi untuk berburu, menyuburkan tanah, menanam dan menuai panenan, pembuatan hujan, penangkapan ikan, pelayaran, perdagangan, dan percintaan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2. Magi protektif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Misalnya Tabu-tabu untuk menjaga milik, magi untuk membantu mengumpulkan hutang, magi untuk menanggulangi kemalangan, magi untuk pemeliharaan orang sakit, magi untuk keselamatan perjalanan, dan untuk dijadikan lawan tehadap magi destruktif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. Magi destrukti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salnya Magi untuk mendatangkan badai, merusak milik, mendatangkan penyakit, dan mendatangkan kemati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lam praktiknya, dibutuhkan tiga unsur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. Bahan yang digunakan, berupa obat-obata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. Penggarapan, berupa upacar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. Sesuatu yang diucapkan, berupa mantr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Ramalan adalah usaha untuk memperoleh informasi tentang hal-hal di masa datang atau hal-hal yang luput dari pengalaman biasa dengan meminta nasihat kepada informan yang bukan manusia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Teknik-teknik yang digunakan adalah: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1. Ramalan mekanis dengan cara memanipulasi obyek-obyek material, dan operasinya disebut ”kebetulan”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2. Ramalan Ritual (melalui nujum)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3. Ramalan emotif, yang menunjuk pada daya-daya spiritual, adakalanya lewat roh perantara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ihir harus dipahami melalui kodrat dan kedudukannya dalam teori penyakit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ara penyihir mempunyai berbagai bentuk, sebagai manusia, binatang, dan bola ap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anusia dapat menjadi penyihir bila dilahirkan dengan dua hati: baik dan jahat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ntuk melawan kuasa jahat, manusia yang merasa tidak berdaya karena kurangnya pengetahuan akan upacara agama, mencari pertolongan melalui dukun yang dianggapnya mempunyai pengetahuan untuk melawan penyihi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ung adalah praktik dari orang yang mencoba menyakiti orang lain lewat magi. Biasanya melalui penguburan boneka, penguburan kembali sisa-sisa tubuh manusia, penguburan obyek-obyek lain (foto, potongan kuku, rambut, sobekan pakaian), pengucapan doa dan mantra-mantr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iasanya  tenung merangkum semua magi hita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22:52:33Z</dcterms:created>
  <dc:creator>Valued Acer Customer</dc:creator>
  <dc:description/>
  <dc:language>en-US</dc:language>
  <cp:lastModifiedBy>Tanti Skober</cp:lastModifiedBy>
  <dcterms:modified xsi:type="dcterms:W3CDTF">2011-02-22T13:10:33Z</dcterms:modified>
  <cp:revision>11</cp:revision>
  <dc:subject/>
  <dc:title>Manusia dan Kebudayaan Indonesia</dc:title>
</cp:coreProperties>
</file>